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AB7-C630-4EF2-B1D5-DAE97846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EBA-7114-4E15-9CAE-944A4A41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842-1D2A-49DA-AFC2-D22C65B2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C54-512C-4B6D-93F2-7E85C322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C347-99F3-4BE5-B1A3-FB07C5DA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6216-B8DD-4601-AFFB-1F30EE7D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95AB-21B1-448C-8CF5-5EF40D1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BE27-BD64-4F5B-A566-75D27255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147A-7596-472C-A8A1-BD38D124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EED7-82E1-4099-816F-598672C8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E85D-B923-4475-A2E8-C910F5B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1F9-B9B8-4457-BB06-B0C4119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CB69-611E-4090-8B73-B68561E4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5068-9084-4C50-930D-0E052C7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46FB-C2A6-4C49-981C-2A4B3A18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6F36-3FFC-4838-AEF4-CD112738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3C23-2FEE-4CF5-80C5-22075742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F87-4185-47AF-8B10-B05440B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EE5-49C0-4E93-9E84-7C98F928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C97-FFA7-49CE-8A38-747E4C36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97E-8C57-4BC1-BA25-18E3A888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27A-3457-4D81-A4EA-36C18AA2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2F3-C042-464F-B25C-FD97B4A2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92A-C8B2-4F85-ADE2-9F0ED77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13200" indent="-3132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80760" indent="-2768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039680" indent="-2682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352880" indent="-2232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665360" indent="-2206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665360" indent="-2206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665360" indent="-2206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E9B1-CC59-4E39-B18D-5D8F5DAB2F4D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urlz MT"/>
              </a:rPr>
              <a:t>Click to edit the title text format</a:t>
            </a:r>
            <a:endParaRPr b="0" lang="en-US" sz="60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6B0-5DB7-488F-AAF7-5D950D4C7668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urlz MT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indent="6192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indent="5868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Warm Up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are real &amp; nominal GDP different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equation connects them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95E-5A48-4DD3-9158-E8B809EDE7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Wha’t it used for?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’s great to know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rve a real purpose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o uses it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est tool gov’t has for checking burden on “average” consum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Often times COLA based on i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B00-B1C1-4F38-8D3F-6E8DA98510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Now &amp; Later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nflation affects your money now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lso reduces value lat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$5 used to buy a lo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$.49 cheeseburgers at McDe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$.39 tacos on Sunda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2E4-FFD6-4ACC-9782-355707E25C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Banks aren’t losers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4680" indent="-364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anks must consider thi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Money loaned out is worth less when repai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d expected inflation onto price charged for loan (interest rate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rate you pay now (nominal) = expected inflation +real I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EE9-43F8-427D-9208-252096F79E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Can’t expect the unexpected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anks consider “EXPECTED INFLATION”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f it’s not expected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o suffer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o benefit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4CA-AD32-4C09-A957-DBA8B70EB2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Use in moderation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o far it sounds like inflation is all ba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No really, but can be when not controll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Moderate is ok (ideally 2-3%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en we have time to adjust it’s all good (gas of late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F09-0322-44FF-9D27-B54FCA2ED1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Summary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ices go up…it’s inevitabl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ice indices used to estimate burden to consumer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PI most popular (relevant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irectly affects interest rates (nominal = real + inflation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HW: 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77544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Questions for Review (p 532):  1, 4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7544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roblems &amp; Aps (p 532): 2,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, 5, 6, 11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176-F649-4F3A-9E70-FA3A746C6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urlz MT"/>
              </a:rPr>
              <a:t>Chapter 24:  Measuring the Cost of Living</a:t>
            </a:r>
            <a:endParaRPr b="0" lang="en-US" sz="60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352680" y="990360"/>
            <a:ext cx="236232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urlz MT"/>
              </a:rPr>
              <a:t>It sure adds up quickly!</a:t>
            </a: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36B1-B84E-4790-9986-E526DC2268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Overview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PI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OLA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eal vs nominal interest rate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Vocab is the same lis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5 slide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1B6-01E2-45F4-B81B-B5407BD269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Backwards first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st chapter we introduced GD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Real vs nomina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GNP, NDP, PI, NI, DI, NEW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ncome &amp; expenditure approach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’s great to know the total, but what does it cost u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762-462A-4204-B774-61E68040BA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Rising Sun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ices increasing is almost as consistent as the su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ome more than othe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ometimes it’s DEFL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ISINFLATION &amp; HYPERINFL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lso galloping &amp; moderat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ottom line is that prices increas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D8E-8C38-4CDF-A2D8-63E44BD7F1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Making sense of cents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’s a mess to keep straig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Most rise, a few fal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’s it mean overall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alyze everything togeth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20B-54B4-4C2C-99E4-F376713B7A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CPI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ake a big “market basket”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dd up the cos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o it every month foreve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Use tallies to evaluate inflation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ells us overall how much prices are changing for the average consume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8A4-47E0-4559-B8EC-55DD3CBECB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3 step Process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.  Set the “MARKET BASKET”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2.  Find the price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3.  Compute cost for baske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4.  Set a base yea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1316160" indent="-339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nalyze inflation over that period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5.  Calculate CPI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quation?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B9A-BF33-494C-800C-95012B36D5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Others care too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’s not the only one…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 is the most commonly us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PI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ole purpose is to track pri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181-4143-4B78-8F5F-1EA14186A0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1:56:34Z</dcterms:created>
  <dc:creator>Lewisburg Area School District</dc:creator>
  <dc:description/>
  <dc:language>en-US</dc:language>
  <cp:lastModifiedBy>Lewisburg Area School District</cp:lastModifiedBy>
  <dcterms:modified xsi:type="dcterms:W3CDTF">2010-01-21T14:35:03Z</dcterms:modified>
  <cp:revision>9</cp:revision>
  <dc:subject/>
  <dc:title>Chapter 24:  Measuring the Cost of Living</dc:title>
</cp:coreProperties>
</file>